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0E20-7F86-4DD6-9088-F797E1EED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1905-BDBC-4F80-895F-1AF02C276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03CB-0492-4438-BCC7-7B8A246C6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456D-BFE4-4523-A242-B263F329E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BD32-D638-4A23-AA26-A69836852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DF5D-C848-4551-88EF-A834D949F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547E-0411-4124-A224-B3358C47C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3811-9153-4FE2-9F4D-D8CDE020D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CD2F-0089-489C-867D-CC86BCCD1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B95C-FB9A-421E-A6E6-4FAEC137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92E4-FB0F-4B37-B2CC-F96839BE6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3998-E02C-4FBE-9770-5EE943C1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CBC98-4061-4A66-8E37-53BBCDC616E4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752480"/>
            <a:ext cx="6400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لثال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Andalus"/>
              </a:rPr>
              <a:t>تطوير التقارير المالي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1944-5C9A-4106-8F66-DCA2C841CF09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1466640"/>
            <a:ext cx="8153280" cy="1143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عن للعامل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3295800"/>
            <a:ext cx="7925040" cy="243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معلومات عن العاملين وأعدادهم وأعمارهم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D6BD-10CC-4537-9CA3-22DA05655290}" type="slidenum">
              <a:t>10</a:t>
            </a:fld>
          </a:p>
        </p:txBody>
      </p:sp>
    </p:spTree>
  </p:cSld>
  <p:transition>
    <p:random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1537920"/>
            <a:ext cx="81532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عن الموارد البش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3367080"/>
            <a:ext cx="7848720" cy="243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معلومات مالية عن تكلفة اختيار وتعيين وتدريب العامل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B5B6-9E53-46A7-A0EA-C7A81FD73797}" type="slidenum">
              <a:t>11</a:t>
            </a:fld>
          </a:p>
        </p:txBody>
      </p:sp>
    </p:spTree>
  </p:cSld>
  <p:transition>
    <p:random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1609200"/>
            <a:ext cx="81532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الاجتما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3438360"/>
            <a:ext cx="7925040" cy="2438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لبيان كل من نفقات وعوائد المشروعات الاجتماعية وحماية البيئ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8918-6311-4407-BBD9-392E4DABCEE7}" type="slidenum">
              <a:t>12</a:t>
            </a:fld>
          </a:p>
        </p:txBody>
      </p:sp>
    </p:spTree>
  </p:cSld>
  <p:transition>
    <p:random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1456920"/>
            <a:ext cx="81532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بالقيمة المضا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3438360"/>
            <a:ext cx="7848720" cy="2438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لبيان مدى مساهمة كل عامل من عوامل الانتاج في الدخل المحق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91320" y="6237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314E-27B4-4842-B6B9-FAB84BE5470E}" type="slidenum">
              <a:t>13</a:t>
            </a:fld>
          </a:p>
        </p:txBody>
      </p:sp>
    </p:spTree>
  </p:cSld>
  <p:transition>
    <p:random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785160" y="2242440"/>
            <a:ext cx="7488000" cy="38973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طورت التقارير المالية من حيث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كمية المعلوم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نوع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طريقة عرض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الحد الادنى الضروري من المعلومات التي يجب الإفصا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   عنها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765000"/>
            <a:ext cx="7705440" cy="1079640"/>
          </a:xfrm>
          <a:prstGeom prst="bevel">
            <a:avLst>
              <a:gd name="adj" fmla="val 2644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طور التقارير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91320" y="6345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A4A2-63A4-4598-A94C-25599B1FABDC}" type="slidenum">
              <a:t>2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1447560"/>
            <a:ext cx="792468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لماذا ظهرت الدعوة إلى تطوير التقارير المالية؟؟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1760" y="3352320"/>
            <a:ext cx="7848360" cy="18766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ffffff"/>
              </a:gs>
              <a:gs pos="100000">
                <a:srgbClr val="b2b2b2"/>
              </a:gs>
            </a:gsLst>
            <a:lin ang="5400000"/>
          </a:gra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لعدم وفاء التقارير المالية بشكلها الحالي باحتياجات المستفيدين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3C80-2909-4989-8144-DCCA6D3EC8FA}" type="slidenum">
              <a:t>3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32040"/>
            <a:ext cx="7772400" cy="768240"/>
          </a:xfrm>
          <a:prstGeom prst="rect">
            <a:avLst/>
          </a:prstGeom>
          <a:gradFill rotWithShape="0">
            <a:gsLst>
              <a:gs pos="0">
                <a:srgbClr val="c5ffc5"/>
              </a:gs>
              <a:gs pos="50000">
                <a:srgbClr val="ffffff"/>
              </a:gs>
              <a:gs pos="100000">
                <a:srgbClr val="c5ffc5"/>
              </a:gs>
            </a:gsLst>
            <a:lin ang="5400000"/>
          </a:gra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ا هي مظاهر هذا التطور؟؟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43040" y="2000160"/>
            <a:ext cx="7772400" cy="4172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القطاعي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متعددة الأغراض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الدورية (الفترية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المستقبلي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الموجز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للعاملي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عن الموارد البشري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حاسبة الاجتماعي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بالقيمة المضاف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791320" y="6345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1534-90AA-4F56-A836-6DFB957F13F0}" type="slidenum">
              <a:t>4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1537920"/>
            <a:ext cx="81532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القطا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3367080"/>
            <a:ext cx="8229600" cy="243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الافصاح حسب الانتاج أو المناطق الجغراف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C3C3-5BDD-4FE7-940B-61E42B0D14F4}" type="slidenum">
              <a:t>5</a:t>
            </a:fld>
          </a:p>
        </p:txBody>
      </p:sp>
    </p:spTree>
  </p:cSld>
  <p:transition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1820520"/>
            <a:ext cx="81532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متعددة الاغرا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3438360"/>
            <a:ext cx="8001000" cy="2438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عدة طرق مثل تكلفة الاحلال أو الجا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BA06-4C5E-4D2F-AAE7-F110A4CB6462}" type="slidenum">
              <a:t>6</a:t>
            </a:fld>
          </a:p>
        </p:txBody>
      </p:sp>
    </p:spTree>
  </p:cSld>
  <p:transition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37920"/>
            <a:ext cx="7848720" cy="1143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الدورية (الفترية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3367080"/>
            <a:ext cx="7848720" cy="243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لفترات قصيرة ربع سنوية مثل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3311-C692-4141-AE8A-F730F19DD6BE}" type="slidenum">
              <a:t>7</a:t>
            </a:fld>
          </a:p>
        </p:txBody>
      </p:sp>
    </p:spTree>
  </p:cSld>
  <p:transition>
    <p:random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1537920"/>
            <a:ext cx="79246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المستقبل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3367080"/>
            <a:ext cx="8153640" cy="243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قوائم معتمدة على تنبؤات مستقب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0692-4399-4C60-AFC7-603AA4CDABB7}" type="slidenum">
              <a:t>8</a:t>
            </a:fld>
          </a:p>
        </p:txBody>
      </p:sp>
    </p:spTree>
  </p:cSld>
  <p:transition>
    <p:random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1142640"/>
            <a:ext cx="79246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الموجز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2971800"/>
            <a:ext cx="7848720" cy="243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ahoma"/>
                <a:cs typeface="PT Bold Heading"/>
              </a:rPr>
              <a:t>المختصر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37F9-500E-428D-B045-55F4824AA711}" type="slidenum">
              <a:t>9</a:t>
            </a:fld>
          </a:p>
        </p:txBody>
      </p:sp>
    </p:spTree>
  </p:cSld>
  <p:transition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****</cp:lastModifiedBy>
  <dcterms:modified xsi:type="dcterms:W3CDTF">2003-12-07T21:54:19Z</dcterms:modified>
  <cp:revision>28</cp:revision>
  <dc:subject/>
  <dc:title>التحليل المالي والائتماني</dc:title>
</cp:coreProperties>
</file>